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C9396-7BBF-459D-A40D-2912201C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9174-B7E2-433E-A001-97DFBC69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41B3-DCCA-42BA-BCD9-CE9D0A44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39B39-2C11-46CE-B5F0-7DD60057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05990-9295-46C3-9828-39DDF7F4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42173-389E-4DE2-8AB7-B10FDB9A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25653-50DE-4E7D-8C50-0C59B144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AB285-29FA-44BA-A1E8-7B444BD0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7071C-DA80-46CE-B015-1E02F8C6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EFD6D-46B9-40FD-8A69-A8374F85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BFC45-E177-4572-9C02-8E5B7768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3CD8-BBA2-4ACD-B9EB-6988B796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4F70B-D8BB-41F1-9125-11A5A67C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4CA35-4D6A-43FE-AC3C-995826E2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FB775-08A6-449F-AB23-3008F2BC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835D3-0F0D-4EE9-84E3-CB74588D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20419-7BF1-4736-BABE-6FD1CAB4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C223-8E7B-4AAC-AF77-77B58B54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D2150-723E-4C7A-9F24-3E1D81CD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5F0D-77EA-4A48-91F9-33734D2D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A11F3-56FF-42E5-A0B0-B098B5E8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B669-94E2-4C8B-9A2E-AA23461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CD85-5752-4373-8F02-EAC192BC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169C-7109-4683-AF98-F3FD2EE0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0F32-57B2-48EE-A262-5B35D75F59D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EC27-9F9E-463C-998D-5760EBBC7023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39936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AAEE-0BE9-4578-B0D5-212F1BA53AB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FBB1-9246-4AD2-85EB-58961BE69F4A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PT Bold Heading"/>
              </a:rPr>
              <a:t>الإجراءات المستخدمة في إدارة شئون الموظفين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0171E-DE6D-4F0C-AA19-4011514F9B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04C3787-D665-4387-A3F8-467E744AE7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بلاغ عن إصابة عمل أو وفا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عبئة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المعد لذل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كان وقوع الإصابة بدق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وقع سكن ا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المسمى الوظيف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تاريخ الإصابة والإبلاغ عنها لمؤسسة التأمين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قل المصاب إلى جهة العلاج المخصصة مع أصل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عطاء وصف كامل ل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جراء تحقيق إداري خاص بالشركة عن ا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فاق رخصة القيادة في حال الحوادث المروري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سم توضيحي (كروكي) عن موقع الحاد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شمسية ل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عن تقرير شرطة المرو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الملف إلى التأمينات مع الاحتفاظ بنسخة في قسم شئون الموظف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بليغ السفارة في حال الوفا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عنوان ورثة المتوفى إلى مكتب التأمينات لإرسال التعويض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1E58-9D25-4F09-AEB1-6256C205C7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64010E-43CC-4E93-A9DC-9823BC19FDFF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حقيق في المخالفات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بلاغ خطياً عن المخالفة فور وقوع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تحقيق مع الموظ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حقيق وإعداد تقرير بذ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رفع نتيجة التحقيق والتوصيات للمدير الع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عتماد المدير العام للعقوبة أو رفضها أو تعدي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بلاغ الموظف بمضمون العقوبة وله حق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أسابيع من تاريخ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لى الإدارة الرد على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اً من استلام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جيل العقوبة في ملف الموظف وتنفيذها خاصة العقوبات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تدرج العقوبات حسب شدتها وأهميتها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نبيه – الإنذار – التوبيخ – الفصل- الط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472E-64D0-4B20-AD14-9BA46A32912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41E331-C17E-4F62-A11E-F1890614B380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 الإجراءات الخاصة       بالتأمينات الاجتماعي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جيل الموظف في التأمينات الاجتماعية فور توقيع العق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يجاد سجلات خاصة بالتأمينات الاجتماعية لكل العامل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حتساب قيمة اشتراك التأمينات الاجتماعية عن كل موظف وحسمها من راتبه عن طريق الإدارة الما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بلاغ التأمينات الاجتماعية بأية تعديلات على بيانات الموظف سواء تعديل أو ترك للخدمة أو خلاف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D902-63C4-4E90-9486-FCCC90B943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A76062-3B18-4093-9505-6A08B7561B96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الإجراءات الخاصة بقياس الأداء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كون نماذج تقييم الأداء لدى إدارة الموارد البش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ديد موعد لتقييم الأداء بالاتفاق مع الإدارة العامة والإدارات الأخ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نماذج إلى الإدارات المختلف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رف الإدارة على عملية التقييم وتتأكد من سلامة الإجراءات المتبع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ليل نتائج التقييم وإبلاغ كل إدارة بالنتائ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مقترحات لكل موظف للتدريب أو الترقية أو العلاوات أو غير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نتائج الاقتراحات أولاً بأ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ح سجل لأداء كل موظف لمراقبة تطور الأد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F9CF-E3FC-48F7-AE70-F2E6C694F8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EC7B2C-79CD-4ACC-B261-4B6D32810058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صفية الاستحقاقات عند انتهاء العقد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صر العمال الذين ستنتهي عقوده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متابعة استصدار قرارات انتهاء العق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عمال المعنيين بانتهاء عقودهم للقيام بإجراءات إخلاء الط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ساب استحقاقات العما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إدارة المالية بالاستحقاقات لإنهاء إجراءات الص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سفر من تذاكر وحجوز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حصول على تأشيرة الخروج النهائي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ستلام وتسليم الجواز والإقامة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ثبات بيانات إنهاء العقد في السجل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جهات الخارجية بانتهاء العقد (التأمينات؛ المستوصفات؛...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8B1D1-4575-4C2C-B38B-565BE2F682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71DE24-33EF-4371-B192-0B31BCD0ED93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إعداد مسير الرواتب والأجور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عداد المسير قبل أسبوع على الأقل من نهاية الشهر؛ من واقع قوائم العاملين وأرقامهم الوظي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دخال العمليات التي تمت في الشهر ولها أثر مالي مثل الحسومات بأنواعها؛ العلاوات والمكافآت؛ وتعويض العمل الإضاف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مسير للإدارة المالية بعد توقيعه أصو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وصرف المستحقات من قبل الإدارة المالية قبل نهاية ال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رد على أي استفسارات من جانب العاملين وإرسال صورة من تفصيلات الراتب والإضافات والحسومات لكل منهم إذا رغب في ذل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FEF00-74A9-49AB-B1DF-2BF82397299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689D08-FAB3-4364-9752-AA7BFF9C33CD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التوظيف       الداخلي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ديد  شروط كل وظيفه من خلال وصف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كيل لجنة للمقاب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جراء المقابلات ورفع التوصي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مدير العام قرار 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كمال الإجراءات الإدارية المتعلقة ب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F1B8-CEBD-43A5-9EBA-A7F2F9A802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C6D31B-749F-4800-803C-5F0CE8FA5E4E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وظيف الخارجي (الاستقدام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رز الطلبات لمعرفة الملائم من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ديد مكان وزمان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للسفر وإجراء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تابعة إنهاء إجراءات استقدام من يقع عليهم الإختي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ستكمال الإجراءات الإدارية المتعلقة بالتوظي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1105-39A8-4256-99CD-7051042032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2CDAC4-041F-433D-9E5A-98D4D7D69D55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جازات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يم طل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فع الطلب للإدارة العلي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ل إخلاء طرف لإنهاء إجراءات استحقاقاته الما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صدار قرار الإجازة وتبليغ الموظف ومديره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نهاء إجراءات السفر وتسليم واستلام الإقامة وجواز السف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عداد مذكرة المباشرة بعد العودة وتسليم الإقامة واستلام الجو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C051-9B96-423E-AD2C-DA21D5D72FD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A4990C-6667-4478-8A49-5C091434FA2D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انقطاع عن العمل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 – إجراءات الانقطاع لغير ا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نقطاع أكثر من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ساعة ؛ التأكد من وجوده من عدمه بالسكن؛ وفي عدم وجوده تبلغ الإدارة لاتخاذ الإجراءات المناسبة في مثل هذه الح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تجاوز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يتم اتخاذ إجراءات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- إجراءات الانقطاع ل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حال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تبلغ الإدارة ب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م مخاطبة الموظف وإمهاله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لمباشرة العمل وإلا يتم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0EC3-ED12-4288-8DA1-F143BCF4E9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3F0998-EC90-4ABC-AA77-5FFB74233414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- إجراءات الغياب عن العمل :</a:t>
            </a:r>
            <a:endParaRPr b="1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أيام الغياب أول بأ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صم أجر يوم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بلاغ الموظف بالخص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ند تكرار الغياب يتم تطبيق اللائحة المعمول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9214-BDEA-419B-9505-3B19164A40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2E8EE4-38F3-4DBC-B99D-F541D9FB7C45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ي القيد (الاستقالة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ديم طلب الاستقال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افقة الرئيس المباشر أو عدم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ما لديه من عهد و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مل إخلاء ط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طي القيد أو الاستق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دء بإجراءات الخروج النهائ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ال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هاء إجراءات السفر بعد تسليمه الجواز مع نهاية آخر يوم عمل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6DCD-49E9-4694-B9C3-C6E17DF43E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15B120-A238-459D-A6BF-8FA3667FA058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جديد الإقام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 الإقامة مع 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صورة شخصية قبل فترة كا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حتفاظ بصورة من الإقامة لدى الموظف وإدار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يام بإجراءات تجديدي الإقا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ها إرسالها للموظف عن طريق إدارته بعد توقيعه بالاستل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586B-36D1-4251-8BBE-700E15C842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3EBF1E-12D4-4FFD-86A5-8BAA963B80C8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لب سلفه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ئة النموذج المعد لذلك مع توضيح أسباب طلب السلف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فاق نموذج كفالة موقع من اثنين م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عد التوقيع من المدير المباشر تحول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حول إلى المدير العام في حال الحاجة للاستثن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قسم الرواتب والأجور للتأكد من قدرة الموظف على التسدي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قرار بالموافقة أو التعد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إجراءات الص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8276-628B-498A-A95A-345A873FB4A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C0C436-AD98-4C50-A16F-575E68D407B5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ining center</cp:lastModifiedBy>
  <dcterms:modified xsi:type="dcterms:W3CDTF">2005-02-19T15:51:43Z</dcterms:modified>
  <cp:revision>6</cp:revision>
  <dc:subject/>
  <dc:title>عرض تقديمي من PowerPoint</dc:title>
</cp:coreProperties>
</file>